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042-083B-406B-BBC0-55E598AA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1D5-DAF2-4805-8EB0-1281E1A6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A1A-B28A-4ACB-9F23-B28513EA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1F2-C38D-47EF-89D9-A3042BD1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FE8-5017-4C6F-A600-1361338D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F88-E38E-42CC-B2DA-1D5AF63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BD4-7959-4255-866D-5ABACC04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112-6A7C-4A58-978B-8AF5331A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DD8-E172-4682-B6CD-EAEE39F5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EE2-95D5-4C34-B2B3-AFBE2D37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B67-31C4-4688-BFAD-E5D0042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B3E-4622-4281-80C0-949664E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8F6E-7D39-43C5-9BA9-EAE165E39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y Instant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5238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5238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5238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15238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57200" y="228600"/>
          <a:ext cx="8229600" cy="5897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524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524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7524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752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7524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7524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17524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524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17524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0"/>
          <a:ext cx="8229600" cy="6583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524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7524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7524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7524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75248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75248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7524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1752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002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60020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600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6002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6002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160020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1600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0574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05740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0574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20574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0574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0574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20574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2057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0"/>
          <a:ext cx="8229600" cy="6113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765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6765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1676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16765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676520" y="3886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1676520" y="4495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16765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6765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524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7524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752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17524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7524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175248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7524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17524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228600"/>
          <a:ext cx="8229600" cy="5894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6002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600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6002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6002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16002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1600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52280"/>
          <a:ext cx="8228160" cy="597348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a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52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524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7524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17524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17524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7524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17524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002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60020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600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6002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16002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16002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1600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01:03:19Z</dcterms:created>
  <dc:creator>Cristi Parks</dc:creator>
  <dc:description/>
  <dc:language>en-US</dc:language>
  <cp:lastModifiedBy>oleynikm</cp:lastModifiedBy>
  <dcterms:modified xsi:type="dcterms:W3CDTF">2010-10-08T19:25:14Z</dcterms:modified>
  <cp:revision>47</cp:revision>
  <dc:subject/>
  <dc:title>Fry Instant Sight Words</dc:title>
</cp:coreProperties>
</file>